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9D325-7F8A-4B63-BAEE-8E8A05B4B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2EEEDB5-597C-4E4A-9E49-A8F2863019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A8DC26A0-D1E4-49AF-8F60-09CFD6F760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E026CC19-D9FC-4726-BE97-9974AF54E1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9843DBEA-9011-4826-950D-1D20992C8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6EF1744D-9B2F-4885-806E-8E53CB4E02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8B9A150-1E19-47E7-86ED-0E6CB4518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9CB5E7A-07F2-4E73-8240-D73DB205D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CE94BC5-B1BC-4DD6-ACB4-08A2C484B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9AFEBEA-0F65-4AA1-B3AB-C441A0327F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4C1EBC65-3876-4F8F-888A-771DF2E19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304F834-9D5B-45C0-A605-E97B6E22C0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192EC-1AFB-4A12-98EB-C449172B9D5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42920" y="2276640"/>
            <a:ext cx="712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八章  泌尿系统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8"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卧床休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抗感染、止血、止痛</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肾损伤、检查证实为肾粉碎伤或肾盂破裂、肾动脉造影示肾蒂损伤及合并腹腔脏器损伤等应尽早行手术治疗</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创伤、肾裂伤引起的大出血、尿外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B</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肾损伤（右肾），拟行手术治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手术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及引流管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严密观察病情，及早发现有无术后出血，并做好术后管道的护理预防术后感染等并发症。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以防继发性出血</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83492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膀胱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47"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r>
              <a:rPr b="0" lang="en-US" sz="3200" spc="-1" strike="noStrike">
                <a:solidFill>
                  <a:srgbClr val="046ca6"/>
                </a:solidFill>
                <a:latin typeface="华文新魏"/>
              </a:rPr>
              <a:t>bladder injuries</a:t>
            </a:r>
            <a:r>
              <a:rPr b="0" lang="zh-CN" sz="3200" spc="-1" strike="noStrike">
                <a:solidFill>
                  <a:srgbClr val="046ca6"/>
                </a:solidFill>
                <a:latin typeface="华文新魏"/>
              </a:rPr>
              <a:t>）是指膀胱壁在受到外力的作用时发生膀胱浆膜层、肌层、黏膜层的破裂，引起膀胱腔完整性破坏、血尿外渗</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是否与体表相通分为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膀胱损伤的程度分两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破裂</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1" name="图片 4" descr="说明: 图27-1"/>
          <p:cNvPicPr/>
          <p:nvPr/>
        </p:nvPicPr>
        <p:blipFill>
          <a:blip r:embed="rId1"/>
          <a:stretch/>
        </p:blipFill>
        <p:spPr>
          <a:xfrm>
            <a:off x="2411280" y="1413000"/>
            <a:ext cx="4464360" cy="4384440"/>
          </a:xfrm>
          <a:prstGeom prst="rect">
            <a:avLst/>
          </a:prstGeom>
          <a:ln w="0">
            <a:noFill/>
          </a:ln>
        </p:spPr>
      </p:pic>
      <p:sp>
        <p:nvSpPr>
          <p:cNvPr id="152" name="矩形 4"/>
          <p:cNvSpPr/>
          <p:nvPr/>
        </p:nvSpPr>
        <p:spPr>
          <a:xfrm>
            <a:off x="2952720" y="5735520"/>
            <a:ext cx="33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1800" spc="-1" strike="noStrike">
                <a:solidFill>
                  <a:srgbClr val="046ca6"/>
                </a:solidFill>
                <a:latin typeface="Arial"/>
              </a:rPr>
              <a:t>膀胱损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①</a:t>
            </a:r>
            <a:r>
              <a:rPr b="0" lang="zh-CN" sz="1800" spc="-1" strike="noStrike">
                <a:solidFill>
                  <a:srgbClr val="046ca6"/>
                </a:solidFill>
                <a:latin typeface="Arial"/>
              </a:rPr>
              <a:t>腹膜外损伤；②腹膜内损伤</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和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瘘</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泌尿系统损伤的相关因素及分类、常用辅助检查方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泌尿系统损伤的临床特点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泌尿系统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肉眼血尿，镜下红细胞满视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腹部</a:t>
            </a:r>
            <a:r>
              <a:rPr b="0" lang="en-US" sz="2800" spc="-1" strike="noStrike">
                <a:solidFill>
                  <a:srgbClr val="046ca6"/>
                </a:solidFill>
                <a:latin typeface="华文新魏"/>
              </a:rPr>
              <a:t>X</a:t>
            </a:r>
            <a:r>
              <a:rPr b="0" lang="zh-CN" sz="2800" spc="-1" strike="noStrike">
                <a:solidFill>
                  <a:srgbClr val="046ca6"/>
                </a:solidFill>
                <a:latin typeface="华文新魏"/>
              </a:rPr>
              <a:t>线检查可发现骨盆或其他部位骨折。膀胱造影可见造影剂漏至膀胱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损伤的程度及受伤时所采取的措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及家属对病情的认知程度及应对能力</a:t>
            </a: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持续引流尿液</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开放性损伤、经非手术治疗无效及严重膀胱破裂伴有出血、尿外渗，病情严重者，应尽早施行剖腹探查手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膀胱破裂、骨盆骨折损伤血管出血、尿外渗或腹膜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和有效循环血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膀胱损伤</a:t>
            </a:r>
            <a:endParaRPr b="0" lang="en-US" sz="3600" spc="-1" strike="noStrike">
              <a:solidFill>
                <a:srgbClr val="ffffff"/>
              </a:solidFill>
              <a:latin typeface="华文新魏"/>
            </a:endParaRPr>
          </a:p>
        </p:txBody>
      </p:sp>
      <p:sp>
        <p:nvSpPr>
          <p:cNvPr id="175" name=""/>
          <p:cNvSpPr txBox="1"/>
          <p:nvPr/>
        </p:nvSpPr>
        <p:spPr>
          <a:xfrm>
            <a:off x="304920" y="126792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及预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患者体温和血压变化、伤口愈合情况，预防术后出血、感染、切口裂开等并发症的发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行膀胱造瘘者要做好造瘘管的护理，保持管道固定和通畅，观察记录引流液的颜色、性质和量</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834920" y="227664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三节</a:t>
            </a:r>
            <a:r>
              <a:rPr b="1" lang="en-US" sz="5400" spc="-1" strike="noStrike">
                <a:solidFill>
                  <a:srgbClr val="ffffff"/>
                </a:solidFill>
                <a:latin typeface="华文新魏"/>
              </a:rPr>
              <a:t>  </a:t>
            </a:r>
            <a:r>
              <a:rPr b="1" lang="zh-CN" sz="5400" spc="-1" strike="noStrike">
                <a:solidFill>
                  <a:srgbClr val="ffffff"/>
                </a:solidFill>
                <a:latin typeface="华文新魏"/>
              </a:rPr>
              <a:t>尿道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r>
              <a:rPr b="0" lang="en-US" sz="3200" spc="-1" strike="noStrike">
                <a:solidFill>
                  <a:srgbClr val="046ca6"/>
                </a:solidFill>
                <a:latin typeface="华文新魏"/>
              </a:rPr>
              <a:t>urethral trauma</a:t>
            </a:r>
            <a:r>
              <a:rPr b="0" lang="zh-CN" sz="3200" spc="-1" strike="noStrike">
                <a:solidFill>
                  <a:srgbClr val="046ca6"/>
                </a:solidFill>
                <a:latin typeface="华文新魏"/>
              </a:rPr>
              <a:t>）多见于男性</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是否与体表相通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尿道损伤程度分为</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挫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裂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断裂</a:t>
            </a:r>
            <a:endParaRPr b="0" lang="en-US" sz="28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肿及外渗</a:t>
            </a:r>
            <a:endParaRPr b="0" lang="en-US" sz="28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八章泌尿系统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最多见的是男性尿道损伤，其次为肾、膀胱损伤，最少见的是输尿管损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多为胸、腹、腰部或骨盆严重损伤时发生的合并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共同临床表现为出血和尿外渗，大出血可引起休克，血肿和尿外渗可继发感染，严重时导致脓毒症、周围脓肿、尿瘘或尿道狭窄</a:t>
            </a: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试验</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受伤史，包括受伤的暴力大小、强度、作用的部位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及家属对尿道损伤的认知程度，提高应对能力</a:t>
            </a:r>
            <a:endParaRPr b="0" lang="en-US" sz="28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诊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广谱抗菌药物预防感染</a:t>
            </a: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尿道裂伤导尿失败或尿道断裂</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立即行经会阴尿道修补或断端吻合术，并留置导尿管</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3</a:t>
            </a:r>
            <a:r>
              <a:rPr b="0" lang="zh-CN" sz="2400" spc="-1" strike="noStrike">
                <a:solidFill>
                  <a:srgbClr val="046ca6"/>
                </a:solidFill>
                <a:latin typeface="华文新魏"/>
              </a:rPr>
              <a:t>周</a:t>
            </a:r>
            <a:endParaRPr b="0" lang="en-US" sz="24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骨折致后尿道损伤</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休克治疗病情稳定后，局麻下作耻骨上高位膀胱造瘘（或穿刺造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处理</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在尿外渗区做多个皮肤切口，深达浅筋膜下，留置多孔引流管或作耻骨上膀胱造瘘</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道狭窄：为预防尿道狭窄，拔管后需定期作尿道扩张术</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恐惧</a:t>
            </a:r>
            <a:r>
              <a:rPr b="0" lang="en-US" sz="2800" spc="-1" strike="noStrike">
                <a:solidFill>
                  <a:srgbClr val="046ca6"/>
                </a:solidFill>
                <a:latin typeface="华文新魏"/>
              </a:rPr>
              <a:t>/</a:t>
            </a: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外伤打击、害怕手术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尿障碍</a:t>
            </a:r>
            <a:r>
              <a:rPr b="0" lang="en-US" sz="2800" spc="-1" strike="noStrike">
                <a:solidFill>
                  <a:srgbClr val="046ca6"/>
                </a:solidFill>
                <a:latin typeface="华文新魏"/>
              </a:rPr>
              <a:t>  </a:t>
            </a:r>
            <a:r>
              <a:rPr b="0" lang="zh-CN" sz="2800" spc="-1" strike="noStrike">
                <a:solidFill>
                  <a:srgbClr val="046ca6"/>
                </a:solidFill>
                <a:latin typeface="华文新魏"/>
              </a:rPr>
              <a:t>与尿道损伤引起的局部水肿，或尿道括约肌痉挛、尿道部分或完全断裂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灌注量改变</a:t>
            </a:r>
            <a:r>
              <a:rPr b="0" lang="en-US" sz="2800" spc="-1" strike="noStrike">
                <a:solidFill>
                  <a:srgbClr val="046ca6"/>
                </a:solidFill>
                <a:latin typeface="华文新魏"/>
              </a:rPr>
              <a:t>  </a:t>
            </a:r>
            <a:r>
              <a:rPr b="0" lang="zh-CN" sz="2800" spc="-1" strike="noStrike">
                <a:solidFill>
                  <a:srgbClr val="046ca6"/>
                </a:solidFill>
                <a:latin typeface="华文新魏"/>
              </a:rPr>
              <a:t>与骨折引起的大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休克、尿道狭窄</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体液平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尿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导尿管脱落</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牵引</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引流管通畅</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拔管</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引流管的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膀胱造瘘管</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常规引流管护理进行护理。膀胱造瘘管留置</a:t>
            </a:r>
            <a:r>
              <a:rPr b="0" lang="en-US" sz="2800" spc="-1" strike="noStrike">
                <a:solidFill>
                  <a:srgbClr val="046ca6"/>
                </a:solidFill>
                <a:latin typeface="华文新魏"/>
              </a:rPr>
              <a:t>10</a:t>
            </a:r>
            <a:r>
              <a:rPr b="0" lang="zh-CN" sz="2800" spc="-1" strike="noStrike">
                <a:solidFill>
                  <a:srgbClr val="046ca6"/>
                </a:solidFill>
                <a:latin typeface="华文新魏"/>
              </a:rPr>
              <a:t>日左右即可拔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外渗区切开引流的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抬高阴囊，以利于外渗尿液吸收，促进肿胀消退；定期更换切开敷料；保持引流通畅</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三节</a:t>
            </a:r>
            <a:r>
              <a:rPr b="1" lang="en-US" sz="3600" spc="-1" strike="noStrike">
                <a:solidFill>
                  <a:srgbClr val="ffffff"/>
                </a:solidFill>
                <a:latin typeface="华文新魏"/>
              </a:rPr>
              <a:t>  </a:t>
            </a:r>
            <a:r>
              <a:rPr b="1" lang="zh-CN" sz="3600" spc="-1" strike="noStrike">
                <a:solidFill>
                  <a:srgbClr val="ffffff"/>
                </a:solidFill>
                <a:latin typeface="华文新魏"/>
              </a:rPr>
              <a:t>尿道损伤</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手术修复后，尿道损伤患者尿道狭窄的发生率较高，需要定期行尿道扩张术以避免尿道狭窄</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肾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弹片、枪弹、刀刃等锐器损伤多导致开放性损伤，闭合性损伤多因直接暴力或间接暴力所致。直接暴力时由上腹部或腰背部受到外力撞击或挤压是肾损伤最常见的原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休克、血尿、疼痛、腰腹部包块、发热等症状</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肾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卧床休息，补液、抗感染、止血、止痛等药物治疗。肾损伤严重者尽早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给予患者和家属心理支持，绝对卧床休息</a:t>
            </a:r>
            <a:r>
              <a:rPr b="0" lang="en-US" sz="2800" spc="-1" strike="noStrike">
                <a:solidFill>
                  <a:srgbClr val="046ca6"/>
                </a:solidFill>
                <a:latin typeface="华文新魏"/>
              </a:rPr>
              <a:t>2~4</a:t>
            </a:r>
            <a:r>
              <a:rPr b="0" lang="zh-CN" sz="2800" spc="-1" strike="noStrike">
                <a:solidFill>
                  <a:srgbClr val="046ca6"/>
                </a:solidFill>
                <a:latin typeface="华文新魏"/>
              </a:rPr>
              <a:t>周，密切观察病情，维持体液平衡，做好伤口和引流管护理，以及抗感染等。术后继续观察病情，做好管道的护理。肾部分切除术后患者绝对卧床</a:t>
            </a:r>
            <a:r>
              <a:rPr b="0" lang="en-US" sz="2800" spc="-1" strike="noStrike">
                <a:solidFill>
                  <a:srgbClr val="046ca6"/>
                </a:solidFill>
                <a:latin typeface="华文新魏"/>
              </a:rPr>
              <a:t>1~2</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见于战伤，由弹片、子弹或锐器贯通所致。闭合性损伤多因在膀胱充盈时，下腹部遭撞击、挤压、骨盆骨折的骨片刺破膀胱壁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腹痛、血尿和排尿困难、尿瘘等</a:t>
            </a:r>
            <a:endParaRPr b="0" lang="en-US" sz="28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膀胱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紧急处理、持续引流尿液；手术治疗包括膀胱修补、耻骨上膀胱造瘘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包括心理护理，维持体液平衡和有效循环血量，感染的预防和护理。术后护理重点是并发症的观察和预防，以及膀胱造瘘管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道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开放性损伤多因弹片、锐器伤所致；闭合性损伤常因外来暴力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有休克、疼痛、尿道出血、排尿困难、血肿及尿外渗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非手术治疗包括急诊处理、对症处理和应用抗生素；损伤严重者需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主要是给患者提供心理护理，预防感染，维持体液平衡，密切观察病情和做好术前准备。术后护理主要是做好引流管护理和尿外渗区切开引流的护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a:t>
            </a:r>
            <a:r>
              <a:rPr b="0" lang="en-US" sz="3600" spc="-1" strike="noStrike">
                <a:solidFill>
                  <a:srgbClr val="046ca6"/>
                </a:solidFill>
                <a:latin typeface="华文新魏"/>
              </a:rPr>
              <a:t>renal injuries</a:t>
            </a:r>
            <a:r>
              <a:rPr b="0" lang="zh-CN" sz="3600" spc="-1" strike="noStrike">
                <a:solidFill>
                  <a:srgbClr val="046ca6"/>
                </a:solidFill>
                <a:latin typeface="华文新魏"/>
              </a:rPr>
              <a:t>）常合并有胸腹多脏器的复合伤</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肾损伤可以根据病因不同分为两类</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最常见，根据闭合性肾损伤的程度分为肾挫伤、肾部分裂伤、肾深度裂伤、横断或粉碎伤、肾蒂损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  </a:t>
            </a:r>
            <a:r>
              <a:rPr b="0" lang="en-US" sz="3600" spc="-1" strike="noStrike">
                <a:solidFill>
                  <a:srgbClr val="ffffff"/>
                </a:solidFill>
                <a:latin typeface="华文新魏"/>
              </a:rPr>
              <a:t>28-1  A</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2</a:t>
            </a:r>
            <a:r>
              <a:rPr b="0" lang="zh-CN" sz="2400" spc="-1" strike="noStrike">
                <a:solidFill>
                  <a:srgbClr val="046ca6"/>
                </a:solidFill>
                <a:latin typeface="华文新魏"/>
              </a:rPr>
              <a:t>岁，</a:t>
            </a:r>
            <a:r>
              <a:rPr b="0" lang="en-US" sz="2400" spc="-1" strike="noStrike">
                <a:solidFill>
                  <a:srgbClr val="046ca6"/>
                </a:solidFill>
                <a:latin typeface="华文新魏"/>
              </a:rPr>
              <a:t>8</a:t>
            </a:r>
            <a:r>
              <a:rPr b="0" lang="zh-CN" sz="2400" spc="-1" strike="noStrike">
                <a:solidFill>
                  <a:srgbClr val="046ca6"/>
                </a:solidFill>
                <a:latin typeface="华文新魏"/>
              </a:rPr>
              <a:t>小时之前因盖房不慎从房上跌落在地，右腰部撞上一根木头，当即右腰腹部疼痛剧烈，伴恶心。伤后排尿一次，为全程肉眼血尿，伴血块。</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a:t>
            </a:r>
            <a:r>
              <a:rPr b="0" lang="zh-CN" sz="2400" spc="-1" strike="noStrike">
                <a:solidFill>
                  <a:srgbClr val="046ca6"/>
                </a:solidFill>
                <a:latin typeface="华文新魏"/>
              </a:rPr>
              <a:t> </a:t>
            </a:r>
            <a:r>
              <a:rPr b="0" lang="en-US" sz="2400" spc="-1" strike="noStrike">
                <a:solidFill>
                  <a:srgbClr val="046ca6"/>
                </a:solidFill>
                <a:latin typeface="华文新魏"/>
              </a:rPr>
              <a:t>37.3</a:t>
            </a:r>
            <a:r>
              <a:rPr b="0" lang="zh-CN" sz="2400" spc="-1" strike="noStrike">
                <a:solidFill>
                  <a:srgbClr val="046ca6"/>
                </a:solidFill>
                <a:latin typeface="华文新魏"/>
              </a:rPr>
              <a:t>℃</a:t>
            </a:r>
            <a:r>
              <a:rPr b="0" lang="en-US" sz="2400" spc="-1" strike="noStrike">
                <a:solidFill>
                  <a:srgbClr val="046ca6"/>
                </a:solidFill>
                <a:latin typeface="华文新魏"/>
              </a:rPr>
              <a:t>, P</a:t>
            </a:r>
            <a:r>
              <a:rPr b="0" lang="zh-CN" sz="2400" spc="-1" strike="noStrike">
                <a:solidFill>
                  <a:srgbClr val="046ca6"/>
                </a:solidFill>
                <a:latin typeface="华文新魏"/>
              </a:rPr>
              <a:t> </a:t>
            </a:r>
            <a:r>
              <a:rPr b="0" lang="en-US" sz="2400" spc="-1" strike="noStrike">
                <a:solidFill>
                  <a:srgbClr val="046ca6"/>
                </a:solidFill>
                <a:latin typeface="华文新魏"/>
              </a:rPr>
              <a:t>10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a:t>
            </a:r>
            <a:r>
              <a:rPr b="0" lang="zh-CN" sz="2400" spc="-1" strike="noStrike">
                <a:solidFill>
                  <a:srgbClr val="046ca6"/>
                </a:solidFill>
                <a:latin typeface="华文新魏"/>
              </a:rPr>
              <a:t> </a:t>
            </a:r>
            <a:r>
              <a:rPr b="0" lang="en-US" sz="2400" spc="-1" strike="noStrike">
                <a:solidFill>
                  <a:srgbClr val="046ca6"/>
                </a:solidFill>
                <a:latin typeface="华文新魏"/>
              </a:rPr>
              <a:t>96/60mmHg</a:t>
            </a:r>
            <a:r>
              <a:rPr b="0" lang="zh-CN" sz="2400" spc="-1" strike="noStrike">
                <a:solidFill>
                  <a:srgbClr val="046ca6"/>
                </a:solidFill>
                <a:latin typeface="华文新魏"/>
              </a:rPr>
              <a:t>。神志清，痛苦病容。腹部稍膨隆，上腹部压痛、反跳痛，未扪及包块，移动性浊音（－），肠鸣音弱。右腰部大片皮下瘀斑，局部肿胀，右腰部触痛明显，膀胱区叩诊实音，尿道口有血迹。血常规：</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GB 96g/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尿常规：</a:t>
            </a:r>
            <a:r>
              <a:rPr b="0" lang="en-US" sz="2400" spc="-1" strike="noStrike">
                <a:solidFill>
                  <a:srgbClr val="046ca6"/>
                </a:solidFill>
                <a:latin typeface="华文新魏"/>
              </a:rPr>
              <a:t>RBC</a:t>
            </a:r>
            <a:r>
              <a:rPr b="0" lang="zh-CN" sz="2400" spc="-1" strike="noStrike">
                <a:solidFill>
                  <a:srgbClr val="046ca6"/>
                </a:solidFill>
                <a:latin typeface="华文新魏"/>
              </a:rPr>
              <a:t>满视野，</a:t>
            </a:r>
            <a:r>
              <a:rPr b="0" lang="en-US" sz="2400" spc="-1" strike="noStrike">
                <a:solidFill>
                  <a:srgbClr val="046ca6"/>
                </a:solidFill>
                <a:latin typeface="华文新魏"/>
              </a:rPr>
              <a:t>WBC  0~2</a:t>
            </a:r>
            <a:r>
              <a:rPr b="0" lang="zh-CN" sz="2400" spc="-1" strike="noStrike">
                <a:solidFill>
                  <a:srgbClr val="046ca6"/>
                </a:solidFill>
                <a:latin typeface="华文新魏"/>
              </a:rPr>
              <a:t>个</a:t>
            </a:r>
            <a:r>
              <a:rPr b="0" lang="en-US" sz="2400" spc="-1" strike="noStrike">
                <a:solidFill>
                  <a:srgbClr val="046ca6"/>
                </a:solidFill>
                <a:latin typeface="华文新魏"/>
              </a:rPr>
              <a:t>/</a:t>
            </a:r>
            <a:r>
              <a:rPr b="0" lang="zh-CN" sz="2400" spc="-1" strike="noStrike">
                <a:solidFill>
                  <a:srgbClr val="046ca6"/>
                </a:solidFill>
                <a:latin typeface="华文新魏"/>
              </a:rPr>
              <a:t>高倍视野。</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右肾影增大，结构不清，肾内回声失常，包膜不完整，肾周呈现大片环状低回声。</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腰腹部包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常规可见多量红细胞；有活动性出血时，血红蛋白与血细胞比容持续降低；周围白细胞增多提示有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a:t>
            </a:r>
            <a:r>
              <a:rPr b="0" lang="en-US" sz="2800" spc="-1" strike="noStrike">
                <a:solidFill>
                  <a:srgbClr val="046ca6"/>
                </a:solidFill>
                <a:latin typeface="华文新魏"/>
              </a:rPr>
              <a:t>CT</a:t>
            </a:r>
            <a:r>
              <a:rPr b="0" lang="zh-CN" sz="2800" spc="-1" strike="noStrike">
                <a:solidFill>
                  <a:srgbClr val="046ca6"/>
                </a:solidFill>
                <a:latin typeface="华文新魏"/>
              </a:rPr>
              <a:t>、排泄性尿路造影、动脉造影可了解肾损害程度及对侧肾情况</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肾损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的受伤史，包括受伤的原因、时间、地点、部位，暴力性质、强度等；评估患者受伤时采取的急救措施以及受伤后的病情变化</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和家属对伤情的认知程度，对疾病治疗的知晓程度、对预后的承受能力</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8:29Z</dcterms:modified>
  <cp:revision>113</cp:revision>
  <dc:subject/>
  <dc:title>内科护理学</dc:title>
</cp:coreProperties>
</file>